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2FFA-C26C-4E1D-B3E2-288BB48A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9773-8610-4AF9-A58E-AEC0A6BC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3BD9-BFFE-4D1E-B00B-4B36C0060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FA85-946C-492D-87FF-57AB75E85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2F45-6FC4-4D35-A18E-34C2D1898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B1B0-2189-455A-966A-AC2A2000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FDED-8B4C-44CC-8DDB-9993A27A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F40B-F70B-4EB9-B8A6-BEC65704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917E-B0F5-4695-97DB-7185F17B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5897-98C9-42CC-AF63-F4D6C94C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E265-B4EA-400B-9BE7-80481E99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FA0C-D2A6-44DA-AB60-26C3D4F1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3A6C-B180-4751-847F-246543C6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0E2A-B89E-4CD2-BE4D-DCF53E8B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FDB2-EFC3-4FB0-851B-7EE211E9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B7664-65A7-4C0C-B60F-906D7BF5B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A114-0D91-4A5E-ACBA-770909D27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4314-8424-44AD-A6FF-3FD951AC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EDB2-4064-49FF-8613-335D3D98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70BE-3825-45C8-A7F2-EAD3F301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98C4-8B6F-4E18-BF40-178949FF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5C22-4B65-4255-873B-864ADADC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9647-44D9-4107-9BA1-E38BC6B0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64BC-7B2E-4A19-8247-6F1DC776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FA06-6A5D-45BA-8558-34415A1B5B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720" y="2286000"/>
            <a:ext cx="460872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UŁAMKI ZWYKŁ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87D1-B07E-44A9-B88A-4FAA39838E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85920" y="2432160"/>
            <a:ext cx="715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POWTÓRZENIE WIADOMOŚ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95320" y="81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RZYPOMNIENIE WIERSZYKA</a:t>
            </a:r>
            <a:br>
              <a:rPr sz="3000"/>
            </a:b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 I BUDOWY UŁAM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280" y="113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57360" y="1494000"/>
            <a:ext cx="40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estem sobie kreską ułamkow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o dzielenia wciąż gotow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icznik stoi nade mn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anownik pode mn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42880" y="2708280"/>
            <a:ext cx="7809120" cy="1665000"/>
            <a:chOff x="542880" y="2708280"/>
            <a:chExt cx="7809120" cy="1665000"/>
          </a:xfrm>
        </p:grpSpPr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4165560" y="2708280"/>
                  <a:ext cx="1036800" cy="166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1" name=""/>
            <p:cNvSpPr/>
            <p:nvPr/>
          </p:nvSpPr>
          <p:spPr>
            <a:xfrm>
              <a:off x="5697360" y="2933640"/>
              <a:ext cx="211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licznik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ułamk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695920" y="3743280"/>
              <a:ext cx="265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mianownik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ułamk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2880" y="3292200"/>
              <a:ext cx="3489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kreska ułamkowa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zastępująca znak dzielen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065560" y="3157560"/>
              <a:ext cx="586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57720" y="3968640"/>
              <a:ext cx="495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46640" y="3608280"/>
              <a:ext cx="585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557360" y="4508640"/>
            <a:ext cx="711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ianowni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skazuje na ile części została podzielona cał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czni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ówi nam, ile części wyróżni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resk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łamkowa zastępuje dziel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łame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jest inną formą zapisania dziel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46640" y="590400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łam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532400" y="5815080"/>
                <a:ext cx="14349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95320" y="81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SKRACANIE I ROZSZERZANIE UŁAM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6280" y="954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6640" y="1133640"/>
            <a:ext cx="805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Aby skrócić ułamek należy licznik i mianownik ułamk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podzieli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zez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ą sam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iczb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62000" y="3732120"/>
            <a:ext cx="783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by rozszerzyć ułamek należy jego licznik i mianownik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omnoży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zez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ą sam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iczb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681280" y="1989000"/>
                <a:ext cx="3838680" cy="14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: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: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951280" y="4597560"/>
                <a:ext cx="3405240" cy="14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95320" y="81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UŁAMKI WŁAŚCIWE, UŁAMKI NIEWŁAŚCIWE I LICZBY MIESZ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6280" y="113364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57360" y="1576440"/>
            <a:ext cx="69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Ułamki właściw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mają licznik mniejszy od mianow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57360" y="3159000"/>
            <a:ext cx="66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Ułamki niewłaściw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mają licznik większy od mianow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57360" y="4592520"/>
            <a:ext cx="73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Liczby miesza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zbudowana jest z liczby naturalnej i ułam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672000" y="3567240"/>
                <a:ext cx="214776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044880" y="5072040"/>
                <a:ext cx="346212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672000" y="2035080"/>
                <a:ext cx="218268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842000" y="5668920"/>
            <a:ext cx="2116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 większym iloczynie szukamy licznika ułam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95320" y="81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PORÓWNYWANIE UŁAMK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46280" y="954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27000" y="1179360"/>
            <a:ext cx="65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Porównywanie ułamków o jednakowych licz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06640" y="2754360"/>
            <a:ext cx="66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Porównywanie ułamków o jednakowych mianownik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62000" y="4183200"/>
            <a:ext cx="634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Porównywanie ułamków o różnych mianownikach – metoda mnożenia „na krzyż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57360" y="175248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 dwóch ułamków o tych samych licznikach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większ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jest ten, który ma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mniejszy mianow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46280" y="3249720"/>
            <a:ext cx="562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 dwóch ułamków o jednakowych mianownikach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większ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jest ten, który ma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większy licz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686640" y="1898640"/>
                <a:ext cx="679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&lt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642000" y="3519360"/>
                <a:ext cx="6303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7767720" y="5443560"/>
                <a:ext cx="76500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&l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47" name=""/>
          <p:cNvGrpSpPr/>
          <p:nvPr/>
        </p:nvGrpSpPr>
        <p:grpSpPr>
          <a:xfrm>
            <a:off x="1512720" y="5138640"/>
            <a:ext cx="1753920" cy="990360"/>
            <a:chOff x="1512720" y="5138640"/>
            <a:chExt cx="1753920" cy="990360"/>
          </a:xfrm>
        </p:grpSpPr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2777040" y="5138640"/>
                  <a:ext cx="489600" cy="99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1512720" y="5138640"/>
                  <a:ext cx="551520" cy="99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"/>
            <p:cNvSpPr/>
            <p:nvPr/>
          </p:nvSpPr>
          <p:spPr>
            <a:xfrm flipV="1">
              <a:off x="2064240" y="5400360"/>
              <a:ext cx="800640" cy="468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64240" y="5400360"/>
              <a:ext cx="751320" cy="522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3851280" y="5094360"/>
            <a:ext cx="207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 · 22 = 15 · 16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8 = 24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8 &lt; 240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52720" y="6308640"/>
            <a:ext cx="18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 · 22 = 15 ·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58080" y="553392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ą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95320" y="81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DODAWANIE I ODEJMOWANIE UŁAMKÓW ZWYKŁY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1640" y="108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62000" y="1538280"/>
            <a:ext cx="765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dawani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aby dodać ułamki o tych samych mianownikach dodajemy liczniki, a mianownik pozostaje bez zm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50920" y="36990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dejmowani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aby odjąć ułamki o tych samych mianownikach odejmujemy liczniki, a mianownik pozostaje bez zm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132000" y="2347920"/>
                <a:ext cx="306072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997360" y="4527720"/>
                <a:ext cx="341928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895320" y="81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ZAKOŃ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6280" y="954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57360" y="2079720"/>
            <a:ext cx="5129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 już koniec przygody z ułamk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potkamy się, gdy będziecie piątak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Jeszcze więcej się dowie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i tak już dużo umie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292720" y="3203640"/>
            <a:ext cx="2087640" cy="2087640"/>
            <a:chOff x="5292720" y="3203640"/>
            <a:chExt cx="2087640" cy="2087640"/>
          </a:xfrm>
        </p:grpSpPr>
        <p:graphicFrame>
          <p:nvGraphicFramePr>
            <p:cNvPr id="174" name=""/>
            <p:cNvGraphicFramePr/>
            <p:nvPr/>
          </p:nvGraphicFramePr>
          <p:xfrm>
            <a:off x="6188040" y="3203640"/>
            <a:ext cx="1192320" cy="2087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88040" y="3203640"/>
                      <a:ext cx="1192320" cy="208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76" name="" descr=""/>
            <p:cNvPicPr/>
            <p:nvPr/>
          </p:nvPicPr>
          <p:blipFill>
            <a:blip r:embed="rId3"/>
            <a:stretch/>
          </p:blipFill>
          <p:spPr>
            <a:xfrm>
              <a:off x="5292720" y="3564000"/>
              <a:ext cx="990720" cy="73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1:11:54Z</dcterms:modified>
  <cp:revision>57</cp:revision>
  <dc:subject/>
  <dc:title>Slajd 1</dc:title>
</cp:coreProperties>
</file>